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7C1-C00C-4058-917A-7AE299BE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482-C622-4612-9209-8F39DDC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1E2-60F4-4E98-AE03-97D6885A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CB0-6F20-4D9F-8C78-BE54EA64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E08-0B3F-4341-A37F-69C302C0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94C-9E66-4940-BB6A-87FE8B2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CC0-F7A2-4996-A4FB-4005FF2F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0B0-31B8-4F09-BA6D-8D6D82BA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1B8-5990-44CC-987D-081270A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B2A-FC87-49B6-A003-7C099F8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C7A-7F31-4D60-85E9-99C09CCB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A14-E42E-4784-BD15-E0AD0FDE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1D11-6C21-4F98-ACB3-8152B8A18C6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4 K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a mil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 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s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žia milosť z 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Ježišovi skláň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Duch Svätý ráči zmen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še srdcia n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u Krista môžeme ná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ť, pokoj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sme preto ochotní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m Duch Svätý vedie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56:05Z</dcterms:modified>
  <cp:revision>22</cp:revision>
  <dc:subject/>
  <dc:title>Je veľký náš Pán, on slávy je Kráľ Nech do všetkých strán  spev vrúcnych znie chvál.</dc:title>
</cp:coreProperties>
</file>